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852A-E0D9-4F04-B243-45B2841B7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2D75-F788-447F-ACD1-A0B5BC4F6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F0E-4584-4546-B94B-D62EFA80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D01-757A-4C4E-96FE-63DEAEAC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3F9CB-1321-401A-B287-834100C3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14834-746C-4E09-AF21-351720F0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1DA54-E5BB-4730-9CBF-7D303F7B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38B78-1E62-4C66-8DCF-07FA009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7A351-3B3D-4051-B650-7F334C6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15CFB-F3E0-48E8-AF45-56FFD01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C82D4-593A-4794-8FA0-167905D7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0746D-A78A-4015-9BCE-578D9904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CBF96-7A0D-4D57-A7CF-BB664999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F1C-DD21-4BCD-AFD5-9DC89691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082-64C1-4B8F-9720-1670FF32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4A1F-2BA7-491B-9F97-B93744C7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BC3D-CC26-4DE4-8892-255CB748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2968-9BBC-4336-AC19-C7690CD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D389-3A3D-4E32-AAC4-8978A6E3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B56F-2D66-4523-9E2D-C1936FCA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E295-1C7A-4CCB-9FA0-7068BCB2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5AC5-1344-4791-BF80-52812E60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A42-709F-4B91-8B43-40254811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F733-AF01-42A3-AB23-1D3089E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0207-F082-4E51-9237-296E105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1277-8E69-4FD2-977E-F044331E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607A-F80A-49CE-A481-D3A06709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CD68-D412-47C6-8626-39A0B592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C673-C2E1-4160-A704-0C321F6E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881B-E1AD-4D3C-99D0-15D2B0D1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9392-C9B6-41C7-B727-E75441F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966D-0A5F-4467-B25D-B5456E04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9BA2-ECDC-4814-A2B9-DB5E851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0D6-2ED1-45AD-BA8A-294655D5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F68F-DD3F-49FB-9C8F-53F3CFA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477F-E3FF-423D-956B-3C45509A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C6FC9-2E2C-4231-9D5D-FE1032F7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4DF8-A144-4423-B24C-FBBE6659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BF46-1BC3-4745-993A-6A8A2DAB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7011-7096-445E-B020-5B4D36D8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90CB-AC25-45CE-B4B3-5030E3B7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C4BCF-A060-4492-B505-94C4D192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A34D2-CDF2-40EF-A94E-C02C4497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49A0-8ED0-412C-9214-A71A8B09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D4A-8588-40DA-8DB5-99811788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4503-2A4B-4884-B787-8997FFEE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446F-1094-4D1C-AE43-D8A0D9C7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4C8B7-6DE3-41B7-A034-DAD578E9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CAD1D-E0DC-4468-9AA5-1B27C95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98BE-8ADE-429E-A339-369C965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F5F5-F3A4-433A-B679-C91BD2EA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4403-9540-46EE-A657-8E3B0B9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46694-F3D6-4C36-93A8-4643E0FD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16E51-C834-4E91-A1F7-C232DEAC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B2504-2629-4F32-BC90-003DA2C0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2F9-7D37-45C8-933E-9724C27C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22D7-CA9B-43A6-A419-7125B97D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39E3E-7AAC-41D4-A176-0C33A759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6BA2-A779-48A4-971B-6301683B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DD077-D73B-479E-B9BE-E7B2AC4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38E7E-BEE9-4CBB-AFBD-7D95287B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32AA6-16C0-4F6C-9959-A738FE8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43AC-05C0-4C9C-9D88-A5D22A64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1C4D5-3B8F-48DB-B2AC-50D98B6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B338-9DA2-4C9F-973E-B79FA44F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6CBB-1998-41AA-AC80-A44376BD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ABB-72B6-4B8B-85F1-619A62AA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FDE2F-C513-4752-9407-BECD3084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66325-DBDE-4FC2-B618-3E686854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BA9A3-A6D0-4048-808D-A17C66DF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0B0D4-59B1-4448-8E86-96739376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27D8B-35FD-4917-9474-4F772721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7616A-D3EF-443E-AF45-32BDD317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E39E4-A6B1-4D2E-B887-E45F90A3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FB121-0F96-4DE8-A82B-635D9E23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D908-2B15-4333-80C3-317079E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04D9-CE85-4216-B420-F1B763A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9CA-2430-4875-A932-6D102E7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581B-596A-4E2D-81E7-5B7BAEAA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631C7-0719-440F-B001-49D11D95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19AC0-2E48-4599-9E43-E7DF4774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DC8EB-B80B-4A88-90F7-217A95BF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62B0-4A59-45BD-9B30-E1A0EE5A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5280E-AFD0-41AE-9DA6-BC86A541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2689-64E4-4516-A738-D0DC87A6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D25AE-E4BC-4840-8E46-A769011C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F08D2-21CD-401A-A75B-07FE21C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BCCA-E644-429C-889F-27366F7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BAF-F037-4DDA-86A7-9931E4DB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CD2F2-0745-4DC6-B323-6B439957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E7AC1-79EC-4D02-9C1B-FA346FCE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E03F7-146C-4248-BB98-C98DA85A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2B816-C8B6-4604-A5CF-27F08D79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3E401-5806-4D53-9829-C0426D15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F9B51-F31F-4B28-A394-749BFB6D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1D79C-AE9E-4698-B13A-8A9211F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A3AD0-DCDA-4CAA-800B-CF849B4F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1798A-800E-471E-A2B6-0ACF27AD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9E555-92DF-4D66-81C2-D8246C7E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825-A5DF-4EFA-8BBA-4D4C367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32225-BE09-4F55-BC3E-9410BA10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12872-FDDB-449E-A6EF-BBFFC85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5F0D5-E427-484A-A1DC-95013E06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864D4-146E-44D6-AFC9-B1A5C19B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C0CA-5D66-4B73-BAF9-BEC913D8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A9D42-3E4B-4F8F-B364-7982F64A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F37D-5DC3-42F6-812D-D08BFD2C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1F339-326C-4498-ADE8-E5E22841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E7289-4F49-4F1E-B67C-BABF0F49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993A5-9F73-446B-84E6-B13B4913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2DD9-FD41-43BF-97AF-27D3BCE3911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76D4-EDF9-4388-B349-3A240595EA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ECAC-C958-45A2-ABED-839F024286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3380-54D0-42AB-B5BB-D62BF076423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E3E9-AB00-47B3-8F41-ADBDF224FF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982C-7B58-4F96-A102-7BD9393D67F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4AD4-D744-4894-A56D-DD8DBF377B4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651A-17F8-4360-B36D-0B7710D53F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1B7B-C334-417F-99CF-6F94B9F2804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80520" y="-53352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76040" y="287172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>
            <a:off x="3962520" y="4952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bbie.temple@lakeviewacademy.com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457200" y="21337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ravelocity activity –pick a place to go and how much it cost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Place the website in the bottom-position, question at top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Grayed box is where students writ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Then there is a submit panel at the end of the teach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Submit panel at the top right look at home tab can write full panel tes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Private notes-students learn to balance pen and text tool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457200" y="449568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ass examples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On what continent would you find the Nile River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 In what hemisphere would you find US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Which continent possesses the most peopl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2"/>
          <p:cNvSpPr/>
          <p:nvPr/>
        </p:nvSpPr>
        <p:spPr>
          <a:xfrm>
            <a:off x="304920" y="175248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ovide students a notebook of examples to help them with homework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ut up math problem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View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replay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Replay is great with graph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nd Character writing /cursive/music teachers/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2"/>
          <p:cNvSpPr/>
          <p:nvPr/>
        </p:nvSpPr>
        <p:spPr>
          <a:xfrm>
            <a:off x="228600" y="17524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o Check Attendanc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Go to Tab marked Show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ttendanc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ook for unchecked box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2"/>
          <p:cNvSpPr/>
          <p:nvPr/>
        </p:nvSpPr>
        <p:spPr>
          <a:xfrm>
            <a:off x="457200" y="16765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odeled after the windows 07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If you ever get lost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go home…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0" name="TextBox 2"/>
          <p:cNvSpPr/>
          <p:nvPr/>
        </p:nvSpPr>
        <p:spPr>
          <a:xfrm>
            <a:off x="380880" y="19051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Another great way of getting input from students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tatus check-teachers add a stoplight to panel- anytime you see a stop light on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 panel student stops and updates status of understand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browse over icon to see statu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4729320" y="1371600"/>
            <a:ext cx="37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urriculum Side-Dyknow Vis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380880" y="13716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onitoring S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4648320" y="23623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teractive Feedback From Studen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4619520" y="281952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ctive Note tak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45720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st Practices and Supporting Technologi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457200" y="175248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rough monitor white list just the urls you want them to visi tand student can’t get anywhere els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TextBox 8"/>
          <p:cNvSpPr/>
          <p:nvPr/>
        </p:nvSpPr>
        <p:spPr>
          <a:xfrm>
            <a:off x="380880" y="35053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540a"/>
                </a:solidFill>
                <a:latin typeface="Franklin Gothic Book"/>
              </a:rPr>
              <a:t>Let’s take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5540a"/>
                </a:solidFill>
                <a:latin typeface="Franklin Gothic Book"/>
              </a:rPr>
              <a:t>a walk around  Dyknow…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380880" y="213372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ere are you in terms of Dyknow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at do you want to do in your classes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. Get more feedback/assessment from studen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. Offer an audio record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. Focus on small group and project based learn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, Oth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4920" y="4495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olling gives control; then posts grap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y using the polling question, you can pull information back into class and discuss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y students chose their answ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TextBox 5"/>
          <p:cNvSpPr/>
          <p:nvPr/>
        </p:nvSpPr>
        <p:spPr>
          <a:xfrm>
            <a:off x="228600" y="58672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ow do you know what /when the student submitted answers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Green arrow turns red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22860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on ABC icon to set up the poll-Then, poll participants can see people sending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results in a bar graph, pie chart or individual  respons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capture which puts it on screen, then, click outside  and it plan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TextBox 2"/>
          <p:cNvSpPr/>
          <p:nvPr/>
        </p:nvSpPr>
        <p:spPr>
          <a:xfrm>
            <a:off x="68580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ell-designed skeletal notes are more effective than free-form notes or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omplete instructor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use Private Ink- doesn’t show up on student’s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609480" y="2971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Research based Approach to Encouraging Effective Note-taking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685800" y="38098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se Dyknow to provide guided notes and facilitate effective and activ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note tak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609480" y="472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ell-designed skeletal notes are more effective than free-form notes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or complete instructor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"/>
          <p:cNvSpPr/>
          <p:nvPr/>
        </p:nvSpPr>
        <p:spPr>
          <a:xfrm>
            <a:off x="304920" y="1752480"/>
            <a:ext cx="883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Use Dyknow’s lecture capture feature to pre-record class lectur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aves in a Windows Media format; can export to mp3 so students can listen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hile walking to class on their iPod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equire students to replay lecture prior to cla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Free up class time for in-class activiti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eacher is now present to assist with activities normally done outside the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assroom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session, start , record audio 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hen you save ,notebook will go to server as notes do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an capture what students are discussin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an post for student who misses cla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"/>
          <p:cNvSpPr/>
          <p:nvPr/>
        </p:nvSpPr>
        <p:spPr>
          <a:xfrm>
            <a:off x="609480" y="2209680"/>
            <a:ext cx="769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Record Your Notes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each to Your computer with Audi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computer mic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lapel mic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Audacity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istribute to studen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ave Students review before class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omework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Review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Have basic informat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en, you can do more small group interact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TextBox 3"/>
          <p:cNvSpPr/>
          <p:nvPr/>
        </p:nvSpPr>
        <p:spPr>
          <a:xfrm>
            <a:off x="228600" y="1295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tart With A PowerPoint…..Inset It And Off You Go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2"/>
          <p:cNvSpPr/>
          <p:nvPr/>
        </p:nvSpPr>
        <p:spPr>
          <a:xfrm>
            <a:off x="685800" y="16765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Grab student work, bring it into session and it becomes a part of everyone’s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Best Practice –Bring In a student’s work; It shows without showing student’s nam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You can go in and retrieve student work; You can make annotations on it, put a grade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on it and then you can electronically send it back to student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Students can only see their work;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533520" y="1752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rough Replay can see the different  places students  have be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reen grab, insert, and it pops it into Dyknow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304920" y="3581280"/>
            <a:ext cx="350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Great Feature!......For Math, maping , label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n record steps and replay back step by ste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457200" y="144792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embed content and images in students not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533520" y="213372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Java apple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GoogleDoc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creen grabs, scanned imag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ses Dego social  network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t up as co-moderators-so that when the instructor adds content it is automatically getting can see student status-stop light effect in blocks by student nam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use Wordl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osition can make the panel be  different siz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isable by default allow brows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an browse/ then captur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9:36:53Z</dcterms:created>
  <dc:creator>Admin</dc:creator>
  <dc:description/>
  <dc:language>en-US</dc:language>
  <cp:lastModifiedBy>Admin</cp:lastModifiedBy>
  <dcterms:modified xsi:type="dcterms:W3CDTF">2009-07-28T12:57:22Z</dcterms:modified>
  <cp:revision>23</cp:revision>
  <dc:subject/>
  <dc:title>Slide 1</dc:title>
</cp:coreProperties>
</file>